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70D3-5A35-4905-B618-6D56FEAC1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624A-E335-4304-9552-62839F478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C8B8-B781-4C57-8EF0-8CEB217EE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C1D1-690D-4AF8-BE78-2FF5000BC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BB1-EAF2-4BBA-8B0B-BD24F7E5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AF9-634E-4975-8AAF-CBE147B1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9394-3914-493B-AB4F-093A8B3C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714-6E0F-44CB-AD9A-6A39A46D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CE95-BA15-4874-9162-1156D613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EC8-186A-4D32-B780-0F9B9470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68C-3310-4B07-AD72-1FACDA8E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A40-B015-4EC5-AF95-1B0DA66E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822-B99C-43D4-9DD1-526565BA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6E1-AE21-4A9F-9485-6DEBF4FB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4ED-DDF1-4DC2-B4AF-8CACB517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316-AC64-4D23-999F-20856C88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274A-9697-4BE5-A920-10450AE79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2.jpeg"/><Relationship Id="rId17" Type="http://schemas.openxmlformats.org/officeDocument/2006/relationships/image" Target="../media/image6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hyperlink" Target="http://www.time.com/time/2003/jfk/photoessay/5.html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ome Like it Hot, Gentleman Prefer Blondes, Ocean’s Eleven, Guys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nd Do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oad Not Taken, From Russia With Love, Marlborough, Declin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d Fall of the Roman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456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6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1"/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1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3" descr="2"/>
          <p:cNvPicPr/>
          <p:nvPr/>
        </p:nvPicPr>
        <p:blipFill>
          <a:blip r:embed="rId8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5"/>
          <p:cNvPicPr/>
          <p:nvPr/>
        </p:nvPicPr>
        <p:blipFill>
          <a:blip r:embed="rId9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oaththp"/>
          <p:cNvPicPr/>
          <p:nvPr/>
        </p:nvPicPr>
        <p:blipFill>
          <a:blip r:embed="rId10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9" descr="celebthp"/>
          <p:cNvPicPr/>
          <p:nvPr/>
        </p:nvPicPr>
        <p:blipFill>
          <a:blip r:embed="rId11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1" descr="JohnFKennedy_FrankSinatra"/>
          <p:cNvPicPr/>
          <p:nvPr/>
        </p:nvPicPr>
        <p:blipFill>
          <a:blip r:embed="rId12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grmykthp"/>
          <p:cNvPicPr/>
          <p:nvPr/>
        </p:nvPicPr>
        <p:blipFill>
          <a:blip r:embed="rId13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glennthp"/>
          <p:cNvPicPr/>
          <p:nvPr/>
        </p:nvPicPr>
        <p:blipFill>
          <a:blip r:embed="rId14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Mary Beverly</cp:lastModifiedBy>
  <dcterms:modified xsi:type="dcterms:W3CDTF">2014-02-19T19:47:31Z</dcterms:modified>
  <cp:revision>17</cp:revision>
  <dc:subject/>
  <dc:title>Profile</dc:title>
</cp:coreProperties>
</file>